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D08-6623-457B-B1DB-768F4CB7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521-8806-4CD9-AA84-CB744965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5CA5-183C-4634-86CA-81C70A62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A38-650C-4F3F-8C6F-33617E00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B0D-D803-452D-A4C2-DA204B24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C51-02FB-45D8-A332-BCE75293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1A4-243B-4C9B-8770-D5C26279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EFE-719E-439F-A994-1915152F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036-988D-4AF0-A3B0-446F81DD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239-F454-48DC-9324-AADCDC2E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E10-DF67-4D96-A8DE-45023FBC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CF4-F076-45F6-8E5E-51DE0B7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261D-051C-4BD5-BE93-DA3961C263F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terature Review –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5520" y="2143080"/>
            <a:ext cx="771516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Calibri"/>
              </a:rPr>
              <a:t>To better understand your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Calibri"/>
              </a:rPr>
              <a:t>To determine what is currently/historically kn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Calibri"/>
              </a:rPr>
              <a:t>To check alignment or conflict with your hypo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70c0"/>
                </a:solidFill>
                <a:latin typeface="Calibri"/>
              </a:rPr>
              <a:t>To identify concepts/practices upon which you will bui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terature Review – w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dentify 3 – 5 auth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can titles, chapter titles, headings, abstr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can citations (read backwa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earch key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Use search eng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can jour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Literature Review – 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Read actual items (books, articles, tex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hoose a variety of perspectives on your 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hoose “old” and “new” views – check year of pub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ite the book (APA format for this c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Write a concise summary of the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Write a brief qualifying statement on the author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nnotated literature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ituate the authority/background of the author(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dentify the intended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Explain how this work illuminates your 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ompare or contrast this work with another you have c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ompare or contract a current view with an historic 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ociology Department researchers at Brown University (2008) used data from a 10-year longitudinal study of young adults (18 – 24) to test a hypothesis that non-family living by young adults before marriage alters their attitudes, values, plans and marital expectations, moving them away from their beliefs in traditional sex rol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 1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5840" y="1143000"/>
            <a:ext cx="8572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ncreased time living away from parents before marriage increas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Individu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elf-su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Tolerance for different task/role arrang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Effects were stronger in women than 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Outcome differs from earlier study by Williams (1980) implicating general change in social attitu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Large-scale investigation into relationship between reaching achievement and methods of teac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Conducted for National Foundation for Educational Research, known for its rigorous techniq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8,000 primary children in 60 schools in Kent, England, learning to read in their mother tong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xample 2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92880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tudents succeeded as independent readers in short, medium and long spans of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Variety of instructional methods scored equally w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Peer reading support (listening but not correcting) also improved reading sco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Study was corrected for socio-economic differen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A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et a publication manual or use an online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Learn the different types of works (books, periodicals, technical reports, electronic media 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Gather some exemplars and COPY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70c0"/>
                </a:solidFill>
                <a:latin typeface="Calibri"/>
              </a:rPr>
              <a:t>For this work – PUNCTUATION COUNTS!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2:41:57Z</dcterms:created>
  <dc:creator>Elaine Decker</dc:creator>
  <dc:description/>
  <dc:language>en-US</dc:language>
  <cp:lastModifiedBy>Owner</cp:lastModifiedBy>
  <dcterms:modified xsi:type="dcterms:W3CDTF">2009-09-20T23:43:20Z</dcterms:modified>
  <cp:revision>22</cp:revision>
  <dc:subject/>
  <dc:title>Qualitative research</dc:title>
</cp:coreProperties>
</file>